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A54-7E60-4F2F-A058-577B2D5B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DC1-A609-4790-97EC-1CEF8CAF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725-0D8A-404A-9442-62374BC4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31D-FEFD-4775-B3F1-B0360A0C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4DBD-85C6-4365-8AD6-AFCC3CE7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F9E4-BB64-413F-A529-F6C4C341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8BB4-8077-4596-BEE0-B33BE8D4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BF44-0E28-4B83-8E58-CB2752BE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1162-6E89-475E-AC78-9749D2FC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91CB-B02A-4FAC-AF8A-3996F2FD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C1E7-AE76-4E96-9E3F-6328F463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FD3-89C5-4F5A-B3CF-CE2926DE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CE78-4CF1-451C-81EF-B0DB6CDA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F9BB-C9BA-4DA4-8C1C-AFB881BF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5A11-B2ED-4E95-AA18-B38C763E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FBA9-CE5C-4DF5-93A6-CBCA325B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9A0A-4AD9-4526-860B-DAC143BC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4F5-6FEA-4C8E-B8E1-E8FA834E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AA5-0144-4A62-9EA5-12B26F69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377-69D4-4AD7-A377-5D5675CB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E6C-2785-4F14-A66C-F8876869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34D-6019-47EB-8033-D293C3F2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AC6-E100-4131-93DD-3F31E475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C65-8466-457D-8D31-CC76DD39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2B04-4890-4731-ADA2-C468F7ECE3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9105-B9BF-4C5C-9777-C5FDE4655A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ACIDS </a:t>
            </a: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AND </a:t>
            </a: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BAS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26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WHAT IS pH</a:t>
            </a: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pH is the measurement of how acidic or basic a solution i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ontent Placeholder 3" descr="phscale.jpg"/>
          <p:cNvPicPr/>
          <p:nvPr/>
        </p:nvPicPr>
        <p:blipFill>
          <a:blip r:embed="rId1"/>
          <a:stretch/>
        </p:blipFill>
        <p:spPr>
          <a:xfrm>
            <a:off x="1066680" y="3914640"/>
            <a:ext cx="70866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acteristics of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astes Sou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fects Indicator (red = acid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utralizes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ften Produces Hydrogen G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H between 0 and &lt;7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acteristics of 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astes Bitt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el Slippe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utralizes Acids (Antacid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fect Indicators (base = blue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H between 7 and 1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ssolves grease (degreaser, Draino, Windex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 of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4 (aq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F 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ruit Jui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 of 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OH 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(OH)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2 (aq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OH 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aking Sod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y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a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ye, ammonia, borax, blood, stomach fluids, vinegar, coffee, water, lemon juice, bleach, tomatoes, tums, milk, baking sod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3:40:47Z</dcterms:created>
  <dc:creator>admin</dc:creator>
  <dc:description/>
  <dc:language>en-US</dc:language>
  <cp:lastModifiedBy>amy.cook</cp:lastModifiedBy>
  <dcterms:modified xsi:type="dcterms:W3CDTF">2010-11-15T18:30:39Z</dcterms:modified>
  <cp:revision>11</cp:revision>
  <dc:subject/>
  <dc:title>ACIDS  AND  BASES</dc:title>
</cp:coreProperties>
</file>